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1046484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1046484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08160" y="269352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46600" y="269352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269720" y="575568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08160" y="575568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346600" y="575568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269720" y="2693520"/>
            <a:ext cx="1046484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1046484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1046484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69352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69352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75568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75568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75568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08160" y="269352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46600" y="269352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1269720" y="575568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808160" y="575568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8346600" y="575568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269720" y="2693520"/>
            <a:ext cx="1046484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1046484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1046484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08160" y="269352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46600" y="269352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269720" y="575568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808160" y="575568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8346600" y="575568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269720" y="2693520"/>
            <a:ext cx="1046484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1046484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2693520"/>
            <a:ext cx="1046484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1046484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08160" y="269352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46600" y="269352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269720" y="575568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808160" y="575568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8346600" y="575568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269720" y="2693520"/>
            <a:ext cx="1046484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1046484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1046484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1046484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8160" y="269352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46600" y="269352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269720" y="575568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4808160" y="575568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8346600" y="575568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269720" y="2693520"/>
            <a:ext cx="1046484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1046484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1046484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08160" y="269352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346600" y="269352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269720" y="575568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808160" y="575568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8346600" y="575568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693520"/>
            <a:ext cx="1046484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1046484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269352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269352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75568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75568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75568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2693520"/>
            <a:ext cx="1046484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1046484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1046484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1046484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269352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269352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75568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75568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75568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69720" y="2693520"/>
            <a:ext cx="1046484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1046484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1046484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8160" y="269352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46600" y="269352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69720" y="575568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808160" y="575568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346600" y="575568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269720" y="2693520"/>
            <a:ext cx="1046484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1046484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1046484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08160" y="269352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46600" y="269352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269720" y="575568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808160" y="575568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346600" y="575568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269720" y="2693520"/>
            <a:ext cx="1046484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1046484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1046484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08160" y="269352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46600" y="269352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269720" y="575568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808160" y="575568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346600" y="575568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269720" y="2693520"/>
            <a:ext cx="1046484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1046484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1046484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8160" y="269352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46600" y="269352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269720" y="575568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808160" y="575568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346600" y="575568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269720" y="2693520"/>
            <a:ext cx="1046484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1046484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269720" y="239760"/>
            <a:ext cx="10464840" cy="11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1046484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269720" y="5755680"/>
            <a:ext cx="1046484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31920" y="269352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697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31920" y="5755680"/>
            <a:ext cx="5106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08160" y="269352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346600" y="269352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269720" y="575568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808160" y="575568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346600" y="5755680"/>
            <a:ext cx="3369600" cy="2796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269720" y="2693520"/>
            <a:ext cx="10464840" cy="58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2693520"/>
            <a:ext cx="1046484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8840"/>
            <a:ext cx="1046484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69720" y="2705040"/>
            <a:ext cx="50418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8000"/>
          </a:bodyPr>
          <a:p>
            <a:pPr marL="553320" indent="-38484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00000" indent="-3852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46680" indent="-3852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593360" indent="-38484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40040" indent="-38484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40040" indent="-38484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40040" indent="-38484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69720" y="177480"/>
            <a:ext cx="10464840" cy="259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269720" y="2768760"/>
            <a:ext cx="10464840" cy="698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709560" indent="-4935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154160" indent="-4939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598760" indent="-4939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2043000" indent="-4935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487600" indent="-4935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487600" indent="-4935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487600" indent="-4935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040" y="2705040"/>
            <a:ext cx="396252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5000"/>
          </a:bodyPr>
          <a:p>
            <a:pPr marL="461160" indent="-3207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9880" indent="-3207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38960" indent="-3207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327680" indent="-3207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616760" indent="-3207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616760" indent="-3207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616760" indent="-3207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269720" y="2705040"/>
            <a:ext cx="5041800" cy="5840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8000"/>
          </a:bodyPr>
          <a:p>
            <a:pPr marL="553320" indent="-38484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00000" indent="-3852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46680" indent="-3852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593360" indent="-38484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40040" indent="-38484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40040" indent="-38484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40040" indent="-38484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693520"/>
            <a:ext cx="1046484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1000"/>
          </a:bodyPr>
          <a:p>
            <a:pPr marL="716400" indent="-51984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21040" indent="-52020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25320" indent="-52020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929600" indent="-51984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334240" indent="-51984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334240" indent="-51984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334240" indent="-51984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6847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07172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45836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84500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23164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23164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23164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35040" y="4787640"/>
            <a:ext cx="58672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635040" y="4787640"/>
            <a:ext cx="5867280" cy="4965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635040" y="0"/>
            <a:ext cx="5867280" cy="4711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49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Measuring Amounts of Vitamin C in Apple Juice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269720" y="5028840"/>
            <a:ext cx="10464840" cy="3568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h Bury, Grade 9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168560" y="1218960"/>
            <a:ext cx="10464480" cy="58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wo different types of apple juice differ in ingredients and/or type, then they will have different amounts of Vitamin C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hypothesis was supported: the 2 different types of apple juice contained different amounts of vitamin C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pple juice (not from concentrate) contained the most vitamin C. The vitamin C solution contained the least vitamin C.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e juice not from concentrate does not have any water added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88840"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Gill Sans"/>
              </a:rPr>
              <a:t>Further Experimentation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269720" y="2134800"/>
            <a:ext cx="1046484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3808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Experiment can be carried further by retesting and measuring the vitamin C in other fruit juices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nks for listening!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269720" y="201888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s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ert sources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1117080" y="126972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titration to find out which type of apple juice (from concentrate, not from concentrate) contains the most vitamin C. 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se this experiment in order to see if there was a significant difference between types of apple juice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1117080" y="0"/>
            <a:ext cx="10464840" cy="246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Problem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952200" y="161244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ration- method that uses a solution with a known concentration to find the concentration of a second solution.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tamin C- apple juice is not a natural source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Research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ypothesis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14040" y="1231560"/>
            <a:ext cx="10464840" cy="5840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wo different types of apple juice differ in ingredients and/or type, then they will have different amounts of Vitamin C.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erials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269720" y="1652400"/>
            <a:ext cx="1046484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e Juice (20 mL)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e Juice from Concentrate (20 mL)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tamin C Tablets (125 mg)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illed Water 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odine Solution (50 mL)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ble Starch (.125 g)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Variables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269720" y="1550520"/>
            <a:ext cx="1046484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3808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Independent- type of apple juice use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3808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Dependent- amount of vitamin C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3808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ontrolled- concentration of Iodine solutio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Procedure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"/>
          <p:cNvSpPr/>
          <p:nvPr/>
        </p:nvSpPr>
        <p:spPr>
          <a:xfrm>
            <a:off x="914400" y="3111480"/>
            <a:ext cx="10718640" cy="68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, Iodine and distilled water were mixed to create a 25% Iodine solution.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tarch indicator solution was made by adding .125 g of starch to 25 mL of distilled water.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itamin C standard solution was made by mixing 125 mg of vitamin C with 50 mL of distilled water. 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andard vitamin C solution was titrated by adding 3 drops of the starch indicator and measuring the amount of Iodine solution needed to turn the vitamin C solution black.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269720" y="239760"/>
            <a:ext cx="10464840" cy="246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269720" y="877680"/>
            <a:ext cx="10464840" cy="5862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20 mL of apple juice was titrated. 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 that, 40 mL of apple juice from concentrate was mixed with 40 mL of distilled water.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mL was titrated.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269720" y="250920"/>
            <a:ext cx="10464840" cy="244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1"/>
          <a:stretch/>
        </p:blipFill>
        <p:spPr>
          <a:xfrm>
            <a:off x="431640" y="2514600"/>
            <a:ext cx="6543720" cy="6192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3" name=""/>
          <p:cNvGraphicFramePr/>
          <p:nvPr/>
        </p:nvGraphicFramePr>
        <p:xfrm>
          <a:off x="7480440" y="4229280"/>
          <a:ext cx="4184640" cy="2538360"/>
        </p:xfrm>
        <a:graphic>
          <a:graphicData uri="http://schemas.openxmlformats.org/drawingml/2006/table">
            <a:tbl>
              <a:tblPr/>
              <a:tblGrid>
                <a:gridCol w="1676520"/>
                <a:gridCol w="2508120"/>
              </a:tblGrid>
              <a:tr h="8460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Vit. C Solu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0.06 M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63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Apple Juic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0.3 M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60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Concentrat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N W3"/>
                        </a:rPr>
                        <a:t>0.1 M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4" name=""/>
          <p:cNvSpPr/>
          <p:nvPr/>
        </p:nvSpPr>
        <p:spPr>
          <a:xfrm>
            <a:off x="7988400" y="3301920"/>
            <a:ext cx="31874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Amt. of Vit. C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